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7E50-8985-45CD-92FB-C55E793A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D61-CE01-4341-95D4-163B885C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B3F4-63AE-43A6-ABAC-CC2D116F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F51C-AAB2-4BF1-A00D-27DD29D5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6491-5A35-4CB0-95E4-2069CC7B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100-7C22-4235-933E-1B06FFE1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9C4-05D4-47A1-B454-12188366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147C-B5EA-4C74-9655-026E314E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28A-4F4E-42E9-B4C4-343A3DE0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4BD-E97D-4467-BC40-2F672326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EDB-C58B-420F-B3FD-2E697EDF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B91-5DB3-4840-AE92-A1DB5256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5A79-0DA5-4E82-AB07-265AB9A3A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2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3.wmf"/><Relationship Id="rId14" Type="http://schemas.openxmlformats.org/officeDocument/2006/relationships/image" Target="../media/image24.wmf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00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1752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35053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685800" y="4952880"/>
            <a:ext cx="8001000" cy="1600200"/>
          </a:xfrm>
          <a:custGeom>
            <a:avLst/>
            <a:gdLst>
              <a:gd name="textAreaLeft" fmla="*/ 103680 w 8001000"/>
              <a:gd name="textAreaRight" fmla="*/ 7897320 w 80010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107981" h="21600">
                <a:moveTo>
                  <a:pt x="0" y="0"/>
                </a:moveTo>
                <a:lnTo>
                  <a:pt x="107981" y="0"/>
                </a:lnTo>
                <a:lnTo>
                  <a:pt x="107981" y="21600"/>
                </a:lnTo>
                <a:lnTo>
                  <a:pt x="0" y="21600"/>
                </a:lnTo>
                <a:close/>
              </a:path>
              <a:path fill="lightenLess" w="107981" h="21600">
                <a:moveTo>
                  <a:pt x="0" y="0"/>
                </a:moveTo>
                <a:lnTo>
                  <a:pt x="107981" y="0"/>
                </a:lnTo>
                <a:lnTo>
                  <a:pt x="106581" y="1400"/>
                </a:lnTo>
                <a:lnTo>
                  <a:pt x="1400" y="1400"/>
                </a:lnTo>
                <a:close/>
              </a:path>
              <a:path fill="darken" w="107981" h="21600">
                <a:moveTo>
                  <a:pt x="107981" y="0"/>
                </a:moveTo>
                <a:lnTo>
                  <a:pt x="107981" y="21600"/>
                </a:lnTo>
                <a:lnTo>
                  <a:pt x="106581" y="20200"/>
                </a:lnTo>
                <a:lnTo>
                  <a:pt x="106581" y="1400"/>
                </a:lnTo>
                <a:close/>
              </a:path>
              <a:path fill="darkenLess" w="107981" h="21600">
                <a:moveTo>
                  <a:pt x="107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81" y="20200"/>
                </a:lnTo>
                <a:close/>
              </a:path>
              <a:path fill="lighten" w="107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e Kle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209680" cy="1351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1670040" cy="1749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010280" y="533520"/>
            <a:ext cx="1878120" cy="133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52600" y="2514600"/>
            <a:ext cx="1841400" cy="2271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657600" y="2438280"/>
            <a:ext cx="1066680" cy="2390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7238880" y="2819520"/>
            <a:ext cx="1481400" cy="183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5228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30400" cy="18748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505320" y="228600"/>
            <a:ext cx="1657080" cy="2608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800600" y="457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7315200" y="457200"/>
            <a:ext cx="1119240" cy="19810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533520" y="2743200"/>
            <a:ext cx="1279440" cy="1755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3276720" y="2971800"/>
            <a:ext cx="1879560" cy="1733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6553080" y="2590920"/>
            <a:ext cx="2095560" cy="2185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848720" y="3352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Armband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He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K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o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30400" cy="18748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505320" y="228600"/>
            <a:ext cx="1657080" cy="26082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800600" y="457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7315200" y="457200"/>
            <a:ext cx="1119240" cy="1981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533520" y="2743200"/>
            <a:ext cx="1279440" cy="17557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3276720" y="2971800"/>
            <a:ext cx="1879560" cy="17334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6553080" y="2590920"/>
            <a:ext cx="2095560" cy="2185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848720" y="3352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22860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Armband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He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K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o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30400" cy="1874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505320" y="228600"/>
            <a:ext cx="1657080" cy="26082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800600" y="457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7315200" y="457200"/>
            <a:ext cx="1119240" cy="1981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533520" y="2743200"/>
            <a:ext cx="1279440" cy="17557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3276720" y="2971800"/>
            <a:ext cx="1879560" cy="17334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6553080" y="2590920"/>
            <a:ext cx="2095560" cy="2185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7848720" y="3352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266688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Armband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He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K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o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276720" y="2971800"/>
            <a:ext cx="1879560" cy="1733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3505320" y="228600"/>
            <a:ext cx="1657080" cy="26082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030400" cy="18748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800600" y="457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7315200" y="457200"/>
            <a:ext cx="1119240" cy="19810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533520" y="2743200"/>
            <a:ext cx="1279440" cy="1755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6"/>
          <a:stretch/>
        </p:blipFill>
        <p:spPr>
          <a:xfrm>
            <a:off x="6553080" y="2590920"/>
            <a:ext cx="2095560" cy="21859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7848720" y="3352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Armband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He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K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o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274320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30400" cy="18748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3505320" y="228600"/>
            <a:ext cx="1657080" cy="2608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800600" y="457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7315200" y="457200"/>
            <a:ext cx="1119240" cy="19810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533520" y="2743200"/>
            <a:ext cx="1279440" cy="17557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3276720" y="2971800"/>
            <a:ext cx="1879560" cy="17334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6553080" y="2590920"/>
            <a:ext cx="2095560" cy="2185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7848720" y="3352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Armband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He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K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o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228600"/>
            <a:ext cx="304776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505320" y="228600"/>
            <a:ext cx="1657080" cy="2608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0" y="251460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030400" cy="18748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4800600" y="457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7315200" y="457200"/>
            <a:ext cx="1119240" cy="1981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533520" y="2743200"/>
            <a:ext cx="1279440" cy="17557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3276720" y="2971800"/>
            <a:ext cx="1879560" cy="17334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"/>
          <a:stretch/>
        </p:blipFill>
        <p:spPr>
          <a:xfrm>
            <a:off x="6553080" y="2590920"/>
            <a:ext cx="2095560" cy="21859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7848720" y="3352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Armband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He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K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o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Anz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Bl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3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Gür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4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schu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5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Krawa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rId6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onnenbr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rId7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8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0384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9"/>
          <a:stretch/>
        </p:blipFill>
        <p:spPr>
          <a:xfrm>
            <a:off x="914400" y="533520"/>
            <a:ext cx="539640" cy="13795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4038480" y="380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0"/>
          <a:stretch/>
        </p:blipFill>
        <p:spPr>
          <a:xfrm>
            <a:off x="3124080" y="609480"/>
            <a:ext cx="2724120" cy="18306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1"/>
          <a:stretch/>
        </p:blipFill>
        <p:spPr>
          <a:xfrm>
            <a:off x="7086600" y="228600"/>
            <a:ext cx="1744560" cy="30448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12"/>
          <a:stretch/>
        </p:blipFill>
        <p:spPr>
          <a:xfrm>
            <a:off x="457200" y="2743200"/>
            <a:ext cx="1728720" cy="1730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13"/>
          <a:stretch/>
        </p:blipFill>
        <p:spPr>
          <a:xfrm>
            <a:off x="3048120" y="2743200"/>
            <a:ext cx="2184120" cy="15969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14"/>
          <a:stretch/>
        </p:blipFill>
        <p:spPr>
          <a:xfrm>
            <a:off x="6553080" y="3276720"/>
            <a:ext cx="1752840" cy="127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0384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539640" cy="13795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4038480" y="380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2724120" cy="18306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7086600" y="228600"/>
            <a:ext cx="1744560" cy="30448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457200" y="2743200"/>
            <a:ext cx="1728720" cy="17305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3048120" y="2743200"/>
            <a:ext cx="2184120" cy="15969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6553080" y="3276720"/>
            <a:ext cx="1752840" cy="12747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228600" y="228600"/>
            <a:ext cx="274320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Anz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Bl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Gür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schu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Krawa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onnenbr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0384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539640" cy="13795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4038480" y="380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2724120" cy="18306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7086600" y="228600"/>
            <a:ext cx="1744560" cy="30448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4"/>
          <a:stretch/>
        </p:blipFill>
        <p:spPr>
          <a:xfrm>
            <a:off x="457200" y="2743200"/>
            <a:ext cx="1728720" cy="17305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5"/>
          <a:stretch/>
        </p:blipFill>
        <p:spPr>
          <a:xfrm>
            <a:off x="3048120" y="2743200"/>
            <a:ext cx="2184120" cy="15969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6"/>
          <a:stretch/>
        </p:blipFill>
        <p:spPr>
          <a:xfrm>
            <a:off x="6553080" y="3276720"/>
            <a:ext cx="1752840" cy="12747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895480" y="304920"/>
            <a:ext cx="3048120" cy="2133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Anz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Bl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Gür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schu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Krawa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onnenbr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40384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539640" cy="13795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4038480" y="380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2724120" cy="18306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7086600" y="228600"/>
            <a:ext cx="1744560" cy="30448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4"/>
          <a:stretch/>
        </p:blipFill>
        <p:spPr>
          <a:xfrm>
            <a:off x="457200" y="2743200"/>
            <a:ext cx="1728720" cy="17305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5"/>
          <a:stretch/>
        </p:blipFill>
        <p:spPr>
          <a:xfrm>
            <a:off x="3048120" y="2743200"/>
            <a:ext cx="2184120" cy="15969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6"/>
          <a:stretch/>
        </p:blipFill>
        <p:spPr>
          <a:xfrm>
            <a:off x="6553080" y="3276720"/>
            <a:ext cx="1752840" cy="12747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6095880" y="304920"/>
            <a:ext cx="3048120" cy="2133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Anz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Bl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Gür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schu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Krawa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onnenbr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28800" y="1600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1752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209680" cy="1351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878120" cy="1331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1670040" cy="174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52600" y="2514600"/>
            <a:ext cx="1841400" cy="2271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657600" y="2438280"/>
            <a:ext cx="1066680" cy="2390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629400" y="35053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7238880" y="2819520"/>
            <a:ext cx="1481400" cy="183492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ta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H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a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chu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T-Sh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40384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539640" cy="137952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4038480" y="380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2724120" cy="18306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7086600" y="228600"/>
            <a:ext cx="1744560" cy="3044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457200" y="2743200"/>
            <a:ext cx="1728720" cy="17305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5"/>
          <a:stretch/>
        </p:blipFill>
        <p:spPr>
          <a:xfrm>
            <a:off x="3048120" y="2743200"/>
            <a:ext cx="2184120" cy="15969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6"/>
          <a:stretch/>
        </p:blipFill>
        <p:spPr>
          <a:xfrm>
            <a:off x="6553080" y="3276720"/>
            <a:ext cx="1752840" cy="12747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0" y="251460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Anz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Bl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Gür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schu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Krawa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onnenbr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0384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539640" cy="13795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4038480" y="380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2724120" cy="18306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7086600" y="228600"/>
            <a:ext cx="1744560" cy="30448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457200" y="2743200"/>
            <a:ext cx="1728720" cy="17305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5"/>
          <a:stretch/>
        </p:blipFill>
        <p:spPr>
          <a:xfrm>
            <a:off x="3048120" y="2743200"/>
            <a:ext cx="2184120" cy="15969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6"/>
          <a:stretch/>
        </p:blipFill>
        <p:spPr>
          <a:xfrm>
            <a:off x="6553080" y="3276720"/>
            <a:ext cx="1752840" cy="127476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2971800" y="2590920"/>
            <a:ext cx="3048120" cy="2133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Anz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Bl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Gür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schu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Krawa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onnenbr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40384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539640" cy="13795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4038480" y="380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2724120" cy="183060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7086600" y="228600"/>
            <a:ext cx="1744560" cy="30448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457200" y="2743200"/>
            <a:ext cx="1728720" cy="17305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>
            <a:off x="3048120" y="2743200"/>
            <a:ext cx="2184120" cy="159696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6"/>
          <a:stretch/>
        </p:blipFill>
        <p:spPr>
          <a:xfrm>
            <a:off x="6553080" y="3276720"/>
            <a:ext cx="1752840" cy="1274760"/>
          </a:xfrm>
          <a:prstGeom prst="rect">
            <a:avLst/>
          </a:prstGeom>
          <a:ln w="0">
            <a:noFill/>
          </a:ln>
        </p:spPr>
      </p:pic>
      <p:sp>
        <p:nvSpPr>
          <p:cNvPr id="511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Anz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Bl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Gür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schu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Krawa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onnenbr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943600" y="297180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>
            <a:hlinkClick r:id="rId1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Arm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>
            <a:hlinkClick r:id="rId2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Ma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>
            <a:hlinkClick r:id="rId3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Müt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>
            <a:hlinkClick r:id="rId4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Pull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>
            <a:hlinkClick r:id="rId5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>
            <a:hlinkClick r:id="rId6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Sweat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rId7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rId8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105520" y="1295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9"/>
          <a:stretch/>
        </p:blipFill>
        <p:spPr>
          <a:xfrm>
            <a:off x="3352680" y="380880"/>
            <a:ext cx="1717920" cy="18176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10"/>
          <a:stretch/>
        </p:blipFill>
        <p:spPr>
          <a:xfrm>
            <a:off x="6248520" y="3087720"/>
            <a:ext cx="2030400" cy="17035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11"/>
          <a:stretch/>
        </p:blipFill>
        <p:spPr>
          <a:xfrm>
            <a:off x="609480" y="2819520"/>
            <a:ext cx="1505160" cy="18000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2"/>
          <a:stretch/>
        </p:blipFill>
        <p:spPr>
          <a:xfrm>
            <a:off x="6934320" y="609480"/>
            <a:ext cx="1479600" cy="9493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13"/>
          <a:stretch/>
        </p:blipFill>
        <p:spPr>
          <a:xfrm>
            <a:off x="152280" y="152280"/>
            <a:ext cx="2687760" cy="18259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295280" y="5335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4"/>
          <a:stretch/>
        </p:blipFill>
        <p:spPr>
          <a:xfrm>
            <a:off x="3352680" y="2514600"/>
            <a:ext cx="1436760" cy="194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05520" y="1295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1717920" cy="181764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6248520" y="3087720"/>
            <a:ext cx="2030400" cy="17035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1505160" cy="180000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4"/>
          <a:stretch/>
        </p:blipFill>
        <p:spPr>
          <a:xfrm>
            <a:off x="6934320" y="609480"/>
            <a:ext cx="1479600" cy="9493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2687760" cy="18259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295280" y="5335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6"/>
          <a:stretch/>
        </p:blipFill>
        <p:spPr>
          <a:xfrm>
            <a:off x="3352680" y="2514600"/>
            <a:ext cx="1436760" cy="19494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0" y="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Arm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Ma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Müt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Pull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Sweat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105520" y="1295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1717920" cy="181764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248520" y="3087720"/>
            <a:ext cx="2030400" cy="170352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1505160" cy="180000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4"/>
          <a:stretch/>
        </p:blipFill>
        <p:spPr>
          <a:xfrm>
            <a:off x="6934320" y="609480"/>
            <a:ext cx="1479600" cy="9493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2687760" cy="182592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1295280" y="5335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6"/>
          <a:stretch/>
        </p:blipFill>
        <p:spPr>
          <a:xfrm>
            <a:off x="3352680" y="2514600"/>
            <a:ext cx="1436760" cy="19494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2971800" y="304920"/>
            <a:ext cx="3048120" cy="2133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Arm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Ma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Müt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Pull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Sweat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105520" y="1295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1717920" cy="18176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6248520" y="3087720"/>
            <a:ext cx="2030400" cy="170352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1505160" cy="18000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4"/>
          <a:stretch/>
        </p:blipFill>
        <p:spPr>
          <a:xfrm>
            <a:off x="6934320" y="609480"/>
            <a:ext cx="1479600" cy="94932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2687760" cy="182592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295280" y="5335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6"/>
          <a:stretch/>
        </p:blipFill>
        <p:spPr>
          <a:xfrm>
            <a:off x="3352680" y="2514600"/>
            <a:ext cx="1436760" cy="1949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6095880" y="304920"/>
            <a:ext cx="3048120" cy="2133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Arm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Ma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Müt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Pull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Sweat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105520" y="1295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1717920" cy="181764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6248520" y="3087720"/>
            <a:ext cx="2030400" cy="17035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1505160" cy="180000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6934320" y="609480"/>
            <a:ext cx="1479600" cy="94932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2687760" cy="182592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1295280" y="5335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6"/>
          <a:stretch/>
        </p:blipFill>
        <p:spPr>
          <a:xfrm>
            <a:off x="3352680" y="2514600"/>
            <a:ext cx="1436760" cy="19494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0" y="266688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Arm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Ma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Müt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Pull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Sweat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105520" y="1295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1717920" cy="181764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6248520" y="3087720"/>
            <a:ext cx="2030400" cy="170352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1505160" cy="180000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4"/>
          <a:stretch/>
        </p:blipFill>
        <p:spPr>
          <a:xfrm>
            <a:off x="6934320" y="609480"/>
            <a:ext cx="1479600" cy="94932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2687760" cy="182592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1295280" y="5335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6"/>
          <a:stretch/>
        </p:blipFill>
        <p:spPr>
          <a:xfrm>
            <a:off x="3352680" y="2514600"/>
            <a:ext cx="1436760" cy="19494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2971800" y="251460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Arm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Ma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>
            <a:hlinkClick r:id="rId7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Müt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>
            <a:hlinkClick r:id="rId8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Pull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>
            <a:hlinkClick r:id="rId9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>
            <a:hlinkClick r:id="rId10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Sweat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>
            <a:hlinkClick r:id="rId11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>
            <a:hlinkClick r:id="rId12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105520" y="1295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1717920" cy="181764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6248520" y="3087720"/>
            <a:ext cx="2030400" cy="170352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1505160" cy="180000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4"/>
          <a:stretch/>
        </p:blipFill>
        <p:spPr>
          <a:xfrm>
            <a:off x="6934320" y="609480"/>
            <a:ext cx="1479600" cy="94932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2687760" cy="182592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295280" y="5335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3352680" y="2514600"/>
            <a:ext cx="1436760" cy="19494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Arm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Ma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Müt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Pull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Sweat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095880" y="297180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304920"/>
            <a:ext cx="3048120" cy="2133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1600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1752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1680" y="382680"/>
            <a:ext cx="2209680" cy="135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878120" cy="1331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1670040" cy="1749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52600" y="2514600"/>
            <a:ext cx="1841400" cy="2271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657600" y="2438280"/>
            <a:ext cx="1066680" cy="2390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629400" y="35053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7238880" y="2819520"/>
            <a:ext cx="1481400" cy="183492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ta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H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a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chu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T-Sh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533520" y="1371600"/>
            <a:ext cx="8229600" cy="3657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2209680" y="2133720"/>
            <a:ext cx="48769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2" name="">
            <a:hlinkClick r:id="" action="ppaction://hlinkshowjump?jump=endshow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rId1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8120" y="304920"/>
            <a:ext cx="3047760" cy="2133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600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752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209680" cy="135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878120" cy="1331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1670040" cy="1749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52600" y="2514600"/>
            <a:ext cx="1841400" cy="2271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657600" y="2438280"/>
            <a:ext cx="1066680" cy="2390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629400" y="35053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7238880" y="2819520"/>
            <a:ext cx="1481400" cy="1834920"/>
          </a:xfrm>
          <a:prstGeom prst="rect">
            <a:avLst/>
          </a:prstGeom>
          <a:ln w="0">
            <a:noFill/>
          </a:ln>
        </p:spPr>
      </p:pic>
      <p:sp>
        <p:nvSpPr>
          <p:cNvPr id="108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ta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H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a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chu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T-Sh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791320" y="0"/>
            <a:ext cx="335268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1600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1752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209680" cy="1351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878120" cy="133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1670040" cy="1749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52600" y="2514600"/>
            <a:ext cx="1841400" cy="2271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3657600" y="2438280"/>
            <a:ext cx="1066680" cy="2390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629400" y="35053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7238880" y="2819520"/>
            <a:ext cx="1481400" cy="183492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ta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H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a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chu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T-Sh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28800" y="1600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1752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209680" cy="1351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878120" cy="1331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1670040" cy="1749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52600" y="2514600"/>
            <a:ext cx="1841400" cy="2271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657600" y="2438280"/>
            <a:ext cx="1066680" cy="2390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629400" y="35053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7238880" y="2819520"/>
            <a:ext cx="1481400" cy="1834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52280" y="243828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ta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H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a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chu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T-Sh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28800" y="1600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1752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209680" cy="1351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878120" cy="1331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1670040" cy="1749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552600" y="2514600"/>
            <a:ext cx="1841400" cy="2271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3657600" y="2438280"/>
            <a:ext cx="1066680" cy="2390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629400" y="35053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7238880" y="2819520"/>
            <a:ext cx="1481400" cy="1834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124080" y="243828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ta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H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a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chu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T-Sh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5880" y="2590920"/>
            <a:ext cx="3048120" cy="2133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600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1752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209680" cy="1351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878120" cy="1331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1670040" cy="1749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552600" y="2514600"/>
            <a:ext cx="1841400" cy="2271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3657600" y="2438280"/>
            <a:ext cx="1066680" cy="2390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629400" y="35053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7238880" y="2819520"/>
            <a:ext cx="1481400" cy="183492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ta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H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a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chu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T-Sh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1600200"/>
            <a:ext cx="6098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30400" cy="1874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505320" y="228600"/>
            <a:ext cx="1657080" cy="2608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800600" y="457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7315200" y="457200"/>
            <a:ext cx="1119240" cy="1981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533520" y="2743200"/>
            <a:ext cx="1279440" cy="1755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3276720" y="2971800"/>
            <a:ext cx="1879560" cy="1733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6553080" y="2590920"/>
            <a:ext cx="2095560" cy="2185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848720" y="3352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Armband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He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K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o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22:18:05Z</dcterms:created>
  <dc:creator>Paul Widergren</dc:creator>
  <dc:description/>
  <dc:language>en-US</dc:language>
  <cp:lastModifiedBy>Paul Widergren</cp:lastModifiedBy>
  <dcterms:modified xsi:type="dcterms:W3CDTF">2004-09-19T15:24:27Z</dcterms:modified>
  <cp:revision>21</cp:revision>
  <dc:subject/>
  <dc:title>Slide 1</dc:title>
</cp:coreProperties>
</file>